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EE63-79B7-4151-959C-4D0AB1646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B0BB-4843-4340-B275-C3448DFD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400-F71D-45DB-A8C8-82C30935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12D-EB8D-409C-BA35-E675473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13F-4819-4977-B61D-CF01CF03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ECF-B32A-4237-B997-F3BC6CE1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E0D-1AFD-4F83-B590-283E31D0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FA6-22B2-4322-A529-D6951156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91F-A4DD-4230-A6D3-8EA65C61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402-C4F1-4693-8338-3B387A31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444-CBFB-433A-B610-1F1B043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6D1-BF0B-473C-BD4B-342A92C0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060-80EA-4062-870B-9BBAC08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0ED-A700-42FB-B19E-726623C8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A9BF-6914-423B-8F9F-D95818C15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sbah A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isbah Aw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nombre es Misbah y yo vivo en NYC. Tengo 14 años. Tengo tres hermanos. Sus nombres son Ammar y Huzayfah y Marwaan. Yo les amos. Yo soy joven y alto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6:59Z</dcterms:modified>
  <cp:revision>102</cp:revision>
  <dc:subject/>
  <dc:title>Profile</dc:title>
</cp:coreProperties>
</file>